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3EC-95B9-40B5-80D8-6CE3687A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09F-AA73-450E-BD01-DBDE4B73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703-69C9-41A0-8C5F-3E62D053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5EC-593F-49A5-88FF-6F23864F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073-DD9E-4E06-9F50-F0FD877B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3F7E-558F-49DB-8129-57C45BA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C731-119E-4CB8-89F7-E7345A6A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674-978C-4A10-9A26-4F24A8E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D209-FEEC-4C0F-A6B2-841EF92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F2A2-7DC6-49BE-8182-02D1A27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AC2-830A-4406-9AA6-DC83516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5F3-8303-40E8-99CD-C6C1379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733C-96EC-41A0-A329-FEBF3D6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2D1E-1155-41C4-BA12-C23EAD9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526-461C-4B8C-94DE-1A65784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4175-042F-4E73-8485-54BBECC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617-26FA-4132-B133-A303F29A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718-2E89-43F5-B418-7726614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55A-6EF3-493C-B70A-C650F96C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8E3-F390-4AE5-BA26-DC3FA83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659-692F-4EEC-9831-AB50328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8CE-3D84-4858-90CE-2FEDC658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6E5-8BF8-4BDD-93B0-B34B196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789-F2C2-4093-8749-2E12669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dna63" descr=""/>
            <p:cNvPicPr/>
            <p:nvPr/>
          </p:nvPicPr>
          <p:blipFill>
            <a:blip r:embed="rId2"/>
            <a:stretch/>
          </p:blipFill>
          <p:spPr>
            <a:xfrm>
              <a:off x="0" y="1781280"/>
              <a:ext cx="914400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dna6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dna63" descr=""/>
            <p:cNvPicPr/>
            <p:nvPr/>
          </p:nvPicPr>
          <p:blipFill>
            <a:blip r:embed="rId4"/>
            <a:stretch/>
          </p:blipFill>
          <p:spPr>
            <a:xfrm>
              <a:off x="0" y="4295880"/>
              <a:ext cx="914400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afa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13B7-156F-4AA2-A85A-06F1B92F8BD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6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7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55D-202A-4238-B257-A77A912C5BD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cc.gmu.edu/dna/mRNAanim.htm" TargetMode="Externa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c.gmu.edu/dna/ANIMPROT.ht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57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Understanding RNA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0320" y="2438280"/>
            <a:ext cx="26024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R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ibo</a:t>
            </a: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n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ucleic 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A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cid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2760" y="1546200"/>
            <a:ext cx="0" cy="880920"/>
          </a:xfrm>
          <a:prstGeom prst="line">
            <a:avLst/>
          </a:prstGeom>
          <a:ln w="25560">
            <a:solidFill>
              <a:srgbClr val="f8fa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52120" y="2147760"/>
            <a:ext cx="68756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Protein Synthesis:</a:t>
            </a:r>
            <a:endParaRPr b="1" i="1" lang="en-US" sz="50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How Proteins are Made</a:t>
            </a:r>
            <a:endParaRPr b="1" i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76600" y="1712880"/>
            <a:ext cx="4871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Making Proteins is a Two Step Process: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85920" y="188928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</a:t>
            </a:r>
            <a:r>
              <a:rPr b="1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Transcription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– making a mRNA copy of DNA; occurs in the nucleu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6920" y="365040"/>
            <a:ext cx="179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8fafa"/>
                </a:solidFill>
                <a:latin typeface="Times New Roman"/>
              </a:rPr>
              <a:t>Step 1:</a:t>
            </a:r>
            <a:endParaRPr b="0" lang="en-US" sz="45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640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Why Transcription?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68560" y="2014560"/>
            <a:ext cx="65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afa"/>
                </a:solidFill>
                <a:latin typeface="Arial"/>
              </a:rPr>
              <a:t>DNA contains volumes of information about making protein.</a:t>
            </a: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afa"/>
                </a:solidFill>
                <a:latin typeface="Arial"/>
              </a:rPr>
              <a:t>Unfortunately, DNA is too huge to leave the nucleus but the protein is made in the ribosomes.</a:t>
            </a: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963720"/>
            <a:ext cx="575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Don’t Write This Slide, Just Read!!!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4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crip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71720" y="1971720"/>
            <a:ext cx="6384960" cy="1374840"/>
            <a:chOff x="1971720" y="1971720"/>
            <a:chExt cx="6384960" cy="1374840"/>
          </a:xfrm>
        </p:grpSpPr>
        <p:sp>
          <p:nvSpPr>
            <p:cNvPr id="180" name=""/>
            <p:cNvSpPr/>
            <p:nvPr/>
          </p:nvSpPr>
          <p:spPr>
            <a:xfrm>
              <a:off x="1971720" y="1971720"/>
              <a:ext cx="638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8fafa"/>
                </a:buClr>
                <a:buFont typeface="Times New Roman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The DNA molecule unzip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1680" y="2643120"/>
              <a:ext cx="508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at the nitrogen bas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081160" y="3676680"/>
            <a:ext cx="6616800" cy="2081520"/>
            <a:chOff x="2081160" y="3676680"/>
            <a:chExt cx="6616800" cy="2081520"/>
          </a:xfrm>
        </p:grpSpPr>
        <p:sp>
          <p:nvSpPr>
            <p:cNvPr id="183" name=""/>
            <p:cNvSpPr/>
            <p:nvPr/>
          </p:nvSpPr>
          <p:spPr>
            <a:xfrm>
              <a:off x="2081160" y="3676680"/>
              <a:ext cx="66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  </a:t>
              </a: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mRNA nucleotides pair up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7440" y="4371840"/>
              <a:ext cx="505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with DNA nucleotid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6400" y="5054760"/>
              <a:ext cx="360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(one side)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crip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1990800"/>
            <a:ext cx="6330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C.  DNA “rezips” and mRNA     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leaves the nucleu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8" name="">
            <a:hlinkClick r:id="rId1"/>
          </p:cNvPr>
          <p:cNvSpPr/>
          <p:nvPr/>
        </p:nvSpPr>
        <p:spPr>
          <a:xfrm>
            <a:off x="2097000" y="4861080"/>
            <a:ext cx="586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Here for Transcription Animation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00160" y="2333520"/>
            <a:ext cx="598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Translati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amino acids are being assembled into proteins; occurs in the ribosom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647640"/>
            <a:ext cx="217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Step 2: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-360"/>
            <a:ext cx="835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la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97000" y="1393920"/>
            <a:ext cx="668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A.  mRNA enters the ribosome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87720" y="2455920"/>
            <a:ext cx="6956280" cy="2171880"/>
            <a:chOff x="2187720" y="2455920"/>
            <a:chExt cx="6956280" cy="2171880"/>
          </a:xfrm>
        </p:grpSpPr>
        <p:sp>
          <p:nvSpPr>
            <p:cNvPr id="194" name=""/>
            <p:cNvSpPr/>
            <p:nvPr/>
          </p:nvSpPr>
          <p:spPr>
            <a:xfrm>
              <a:off x="2187720" y="2455920"/>
              <a:ext cx="69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B.  3 mRNA nucleotid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11520" y="3108240"/>
              <a:ext cx="64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(codons) pair up with 3 tRNA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3200" y="3924360"/>
              <a:ext cx="580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nucleotides (anticodons)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097000" y="4916520"/>
            <a:ext cx="7047000" cy="1406520"/>
            <a:chOff x="2097000" y="4916520"/>
            <a:chExt cx="7047000" cy="1406520"/>
          </a:xfrm>
        </p:grpSpPr>
        <p:sp>
          <p:nvSpPr>
            <p:cNvPr id="198" name=""/>
            <p:cNvSpPr/>
            <p:nvPr/>
          </p:nvSpPr>
          <p:spPr>
            <a:xfrm>
              <a:off x="2097000" y="4916520"/>
              <a:ext cx="681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C.  amino acids are added until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5640" y="5619600"/>
              <a:ext cx="63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the “stop” message is reache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/>
          </p:cNvPr>
          <p:cNvSpPr/>
          <p:nvPr/>
        </p:nvSpPr>
        <p:spPr>
          <a:xfrm>
            <a:off x="2644920" y="2382840"/>
            <a:ext cx="5538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Here for Translation Animation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6600" y="1143000"/>
            <a:ext cx="64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* </a:t>
            </a:r>
            <a:r>
              <a:rPr b="0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Cod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three mRNA bas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1560" y="235440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* </a:t>
            </a:r>
            <a:r>
              <a:rPr b="0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Anticod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three tRNA bas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68640" y="3857760"/>
            <a:ext cx="6705360" cy="2149560"/>
            <a:chOff x="2168640" y="3857760"/>
            <a:chExt cx="6705360" cy="2149560"/>
          </a:xfrm>
        </p:grpSpPr>
        <p:sp>
          <p:nvSpPr>
            <p:cNvPr id="204" name=""/>
            <p:cNvSpPr/>
            <p:nvPr/>
          </p:nvSpPr>
          <p:spPr>
            <a:xfrm>
              <a:off x="2168640" y="3857760"/>
              <a:ext cx="6705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* 1 codon makes 1 amino acid;   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1360" y="4573800"/>
              <a:ext cx="508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3 nitrogen bases mak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27200" y="5303880"/>
              <a:ext cx="405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1 amino aci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36320" y="79200"/>
            <a:ext cx="6310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55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afa"/>
                </a:solidFill>
                <a:latin typeface="Arial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fa"/>
                </a:solidFill>
                <a:latin typeface="Arial"/>
                <a:ea typeface="Times New Roman"/>
              </a:rPr>
              <a:t>.  Made of Nucleotides:</a:t>
            </a:r>
            <a:endParaRPr b="1" i="1" lang="en-US" sz="4000" spc="-1" strike="noStrike">
              <a:solidFill>
                <a:srgbClr val="f8fafa"/>
              </a:solidFill>
              <a:latin typeface="Times New Roman"/>
            </a:endParaRPr>
          </a:p>
          <a:p>
            <a:pPr marL="255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afa"/>
                </a:solidFill>
                <a:latin typeface="Arial"/>
              </a:rPr>
              <a:t>    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01880" y="3495600"/>
            <a:ext cx="7004160" cy="3234600"/>
            <a:chOff x="1901880" y="3495600"/>
            <a:chExt cx="7004160" cy="3234600"/>
          </a:xfrm>
        </p:grpSpPr>
        <p:grpSp>
          <p:nvGrpSpPr>
            <p:cNvPr id="93" name=""/>
            <p:cNvGrpSpPr/>
            <p:nvPr/>
          </p:nvGrpSpPr>
          <p:grpSpPr>
            <a:xfrm>
              <a:off x="6599160" y="5018040"/>
              <a:ext cx="2306880" cy="1712160"/>
              <a:chOff x="6599160" y="5018040"/>
              <a:chExt cx="2306880" cy="1712160"/>
            </a:xfrm>
          </p:grpSpPr>
          <p:sp>
            <p:nvSpPr>
              <p:cNvPr id="94" name=""/>
              <p:cNvSpPr/>
              <p:nvPr/>
            </p:nvSpPr>
            <p:spPr>
              <a:xfrm rot="20988600">
                <a:off x="7437240" y="5399280"/>
                <a:ext cx="1371600" cy="1218960"/>
              </a:xfrm>
              <a:prstGeom prst="hexagon">
                <a:avLst>
                  <a:gd name="adj" fmla="val 2813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99160" y="5018040"/>
                <a:ext cx="1066680" cy="114300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5197680" y="5514840"/>
              <a:ext cx="1452240" cy="7560"/>
            </a:xfrm>
            <a:prstGeom prst="line">
              <a:avLst/>
            </a:prstGeom>
            <a:ln w="38160">
              <a:solidFill>
                <a:srgbClr val="f8fa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2200">
              <a:off x="2490480" y="4895640"/>
              <a:ext cx="2743200" cy="1600200"/>
            </a:xfrm>
            <a:prstGeom prst="pentagon">
              <a:avLst/>
            </a:prstGeom>
            <a:solidFill>
              <a:srgbClr val="ff00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1880" y="3495600"/>
              <a:ext cx="1182600" cy="927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506680" y="4422960"/>
              <a:ext cx="0" cy="1093680"/>
            </a:xfrm>
            <a:prstGeom prst="line">
              <a:avLst/>
            </a:prstGeom>
            <a:ln w="38160">
              <a:solidFill>
                <a:srgbClr val="f8fa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573360" y="540396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0440" y="36241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80280" y="5452920"/>
            <a:ext cx="9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757520"/>
            <a:ext cx="48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B.  Phosphate Group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843120"/>
            <a:ext cx="53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A.  Sugar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)  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571840"/>
            <a:ext cx="54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.  Nitrogen Base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4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087880"/>
            <a:ext cx="89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16072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92480"/>
            <a:ext cx="127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9560" y="317484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C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09800" y="317484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22760" y="3174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G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7920" y="317484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G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2400" y="317484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U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35880" y="3174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64320" y="317484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63520" y="3174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U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2160" y="2146320"/>
            <a:ext cx="500364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GCA – AAT- T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60720" y="3174840"/>
            <a:ext cx="44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3990960"/>
            <a:ext cx="45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4838760"/>
            <a:ext cx="66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9720" y="3173400"/>
            <a:ext cx="12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1520" y="3173400"/>
            <a:ext cx="106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G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4160" y="3173400"/>
            <a:ext cx="121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UUA 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21360" y="3173400"/>
            <a:ext cx="113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- AA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19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UG – UCC – CCA – UGC – GGC – UUA – CCC – 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087880"/>
            <a:ext cx="89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040280"/>
            <a:ext cx="113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30400" y="399096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UA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78120" y="399096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G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399096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GG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55880" y="39909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6240" y="399096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CC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70720" y="399096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A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34080" y="399096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GG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8480" y="399096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UU -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62160" y="2146320"/>
            <a:ext cx="500364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GCA – AAT- T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0720" y="3174840"/>
            <a:ext cx="44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 CGU – UUA - AA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60800" y="3957480"/>
            <a:ext cx="121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GCA 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5640" y="4838760"/>
            <a:ext cx="66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240" y="395748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89240" y="3957480"/>
            <a:ext cx="13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AAU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37200" y="3957480"/>
            <a:ext cx="117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- UUA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09720" y="2908440"/>
            <a:ext cx="4972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Use </a:t>
            </a:r>
            <a:r>
              <a:rPr b="0" lang="en-US" sz="5000" spc="-1" strike="noStrike" u="sng">
                <a:solidFill>
                  <a:srgbClr val="f8fafa"/>
                </a:solidFill>
                <a:uFillTx/>
                <a:latin typeface="Times New Roman"/>
              </a:rPr>
              <a:t>mRNA</a:t>
            </a: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 to find the Amino Acid on the Chart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11320" y="415800"/>
            <a:ext cx="67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rite this on the bottom of your “Chart of Amino Acids”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520" y="906480"/>
            <a:ext cx="9318240" cy="4800600"/>
            <a:chOff x="2520" y="906480"/>
            <a:chExt cx="9318240" cy="4800600"/>
          </a:xfrm>
        </p:grpSpPr>
        <p:grpSp>
          <p:nvGrpSpPr>
            <p:cNvPr id="254" name=""/>
            <p:cNvGrpSpPr/>
            <p:nvPr/>
          </p:nvGrpSpPr>
          <p:grpSpPr>
            <a:xfrm>
              <a:off x="971640" y="1363680"/>
              <a:ext cx="7286760" cy="4343400"/>
              <a:chOff x="971640" y="1363680"/>
              <a:chExt cx="7286760" cy="4343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976680" y="1366920"/>
                <a:ext cx="7275600" cy="4336560"/>
                <a:chOff x="976680" y="1366920"/>
                <a:chExt cx="7275600" cy="433656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976680" y="1366920"/>
                  <a:ext cx="1211400" cy="529200"/>
                  <a:chOff x="976680" y="1366920"/>
                  <a:chExt cx="1211400" cy="5292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053720" y="1366920"/>
                    <a:ext cx="105696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2d2525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976680" y="1366920"/>
                    <a:ext cx="12114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188440" y="1366920"/>
                  <a:ext cx="1303200" cy="529200"/>
                  <a:chOff x="2188440" y="1366920"/>
                  <a:chExt cx="1303200" cy="529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265480" y="1366920"/>
                    <a:ext cx="114876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188440" y="1366920"/>
                    <a:ext cx="13032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492360" y="1366920"/>
                  <a:ext cx="1121760" cy="529200"/>
                  <a:chOff x="3492360" y="1366920"/>
                  <a:chExt cx="1121760" cy="5292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569040" y="1366920"/>
                    <a:ext cx="96804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92360" y="1366920"/>
                    <a:ext cx="112176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614480" y="1366920"/>
                  <a:ext cx="1380240" cy="529200"/>
                  <a:chOff x="4614480" y="1366920"/>
                  <a:chExt cx="1380240" cy="529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4691520" y="1366920"/>
                    <a:ext cx="122580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614480" y="1366920"/>
                    <a:ext cx="138024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995440" y="1366920"/>
                  <a:ext cx="1121760" cy="529200"/>
                  <a:chOff x="5995440" y="1366920"/>
                  <a:chExt cx="1121760" cy="5292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6072120" y="1366920"/>
                    <a:ext cx="96804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995440" y="1366920"/>
                    <a:ext cx="112176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117560" y="1366920"/>
                  <a:ext cx="1134720" cy="529200"/>
                  <a:chOff x="7117560" y="1366920"/>
                  <a:chExt cx="1134720" cy="529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194600" y="1366920"/>
                    <a:ext cx="98028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2d2525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117560" y="1366920"/>
                    <a:ext cx="113472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976680" y="1896120"/>
                  <a:ext cx="1211400" cy="1078560"/>
                  <a:chOff x="976680" y="1896120"/>
                  <a:chExt cx="1211400" cy="10785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053720" y="1896120"/>
                    <a:ext cx="10569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976680" y="1896120"/>
                    <a:ext cx="12114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2188440" y="1896120"/>
                  <a:ext cx="1303200" cy="1078560"/>
                  <a:chOff x="2188440" y="1896120"/>
                  <a:chExt cx="1303200" cy="10785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2265480" y="1896120"/>
                    <a:ext cx="11487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henyl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henyl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188440" y="1896120"/>
                    <a:ext cx="13032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3492360" y="1896120"/>
                  <a:ext cx="1121760" cy="1078560"/>
                  <a:chOff x="3492360" y="1896120"/>
                  <a:chExt cx="1121760" cy="1078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569040" y="18961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92360" y="18961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4614480" y="1896120"/>
                  <a:ext cx="1380240" cy="1078560"/>
                  <a:chOff x="4614480" y="1896120"/>
                  <a:chExt cx="1380240" cy="10785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91520" y="1896120"/>
                    <a:ext cx="122580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yro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yro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14480" y="1896120"/>
                    <a:ext cx="138024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5995440" y="1896120"/>
                  <a:ext cx="1121760" cy="1078560"/>
                  <a:chOff x="5995440" y="1896120"/>
                  <a:chExt cx="1121760" cy="10785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72120" y="18961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yste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yste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ryptophan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995440" y="18961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117560" y="1896120"/>
                  <a:ext cx="1134720" cy="1078560"/>
                  <a:chOff x="7117560" y="1896120"/>
                  <a:chExt cx="1134720" cy="10785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7194600" y="1896120"/>
                    <a:ext cx="98028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117560" y="1896120"/>
                    <a:ext cx="113472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976680" y="2974680"/>
                  <a:ext cx="1211400" cy="825120"/>
                  <a:chOff x="976680" y="2974680"/>
                  <a:chExt cx="1211400" cy="825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053720" y="2974680"/>
                    <a:ext cx="105696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976680" y="2974680"/>
                    <a:ext cx="121140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188440" y="2974680"/>
                  <a:ext cx="1303200" cy="825120"/>
                  <a:chOff x="2188440" y="2974680"/>
                  <a:chExt cx="1303200" cy="825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265480" y="2974680"/>
                    <a:ext cx="114876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188440" y="2974680"/>
                    <a:ext cx="130320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3492360" y="2974680"/>
                  <a:ext cx="1121760" cy="825120"/>
                  <a:chOff x="3492360" y="2974680"/>
                  <a:chExt cx="1121760" cy="8251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569040" y="2974680"/>
                    <a:ext cx="9680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92360" y="2974680"/>
                    <a:ext cx="112176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4614480" y="2974680"/>
                  <a:ext cx="1380240" cy="825120"/>
                  <a:chOff x="4614480" y="2974680"/>
                  <a:chExt cx="1380240" cy="825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4691520" y="2974680"/>
                    <a:ext cx="122580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Histid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Histid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614480" y="2974680"/>
                    <a:ext cx="138024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995440" y="2974680"/>
                  <a:ext cx="1121760" cy="825120"/>
                  <a:chOff x="5995440" y="2974680"/>
                  <a:chExt cx="1121760" cy="825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6072120" y="2974680"/>
                    <a:ext cx="9680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995440" y="2974680"/>
                    <a:ext cx="112176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117560" y="2974680"/>
                  <a:ext cx="1134720" cy="825120"/>
                  <a:chOff x="7117560" y="2974680"/>
                  <a:chExt cx="1134720" cy="825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194600" y="2974680"/>
                    <a:ext cx="98028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117560" y="2974680"/>
                    <a:ext cx="113472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976680" y="3800160"/>
                  <a:ext cx="1211400" cy="824760"/>
                  <a:chOff x="976680" y="3800160"/>
                  <a:chExt cx="1211400" cy="8247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053720" y="3800160"/>
                    <a:ext cx="105696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976680" y="3800160"/>
                    <a:ext cx="121140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88440" y="3800160"/>
                  <a:ext cx="1303200" cy="824760"/>
                  <a:chOff x="2188440" y="3800160"/>
                  <a:chExt cx="1303200" cy="8247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265480" y="3800160"/>
                    <a:ext cx="114876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Methi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88440" y="3800160"/>
                    <a:ext cx="130320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3492360" y="3800160"/>
                  <a:ext cx="1121760" cy="824760"/>
                  <a:chOff x="3492360" y="3800160"/>
                  <a:chExt cx="1121760" cy="8247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569040" y="3800160"/>
                    <a:ext cx="96804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92360" y="3800160"/>
                    <a:ext cx="112176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614480" y="3800160"/>
                  <a:ext cx="1380240" cy="824760"/>
                  <a:chOff x="4614480" y="3800160"/>
                  <a:chExt cx="1380240" cy="82476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691520" y="3800160"/>
                    <a:ext cx="122580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ag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ag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y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y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614480" y="3800160"/>
                    <a:ext cx="138024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995440" y="3800160"/>
                  <a:ext cx="1121760" cy="824760"/>
                  <a:chOff x="5995440" y="3800160"/>
                  <a:chExt cx="1121760" cy="8247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6072120" y="3800160"/>
                    <a:ext cx="96804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995440" y="3800160"/>
                    <a:ext cx="112176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117560" y="3800160"/>
                  <a:ext cx="1134720" cy="824760"/>
                  <a:chOff x="7117560" y="3800160"/>
                  <a:chExt cx="1134720" cy="8247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7194600" y="3800160"/>
                    <a:ext cx="98028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117560" y="3800160"/>
                    <a:ext cx="113472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976680" y="4624920"/>
                  <a:ext cx="1211400" cy="1078560"/>
                  <a:chOff x="976680" y="4624920"/>
                  <a:chExt cx="1211400" cy="10785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1053720" y="4624920"/>
                    <a:ext cx="10569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976680" y="4624920"/>
                    <a:ext cx="12114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188440" y="4624920"/>
                  <a:ext cx="1303200" cy="1078560"/>
                  <a:chOff x="2188440" y="4624920"/>
                  <a:chExt cx="1303200" cy="10785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265480" y="4624920"/>
                    <a:ext cx="11487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88440" y="4624920"/>
                    <a:ext cx="13032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492360" y="4624920"/>
                  <a:ext cx="1121760" cy="1078560"/>
                  <a:chOff x="3492360" y="4624920"/>
                  <a:chExt cx="1121760" cy="10785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569040" y="46249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492360" y="46249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614480" y="4624920"/>
                  <a:ext cx="1380240" cy="1078560"/>
                  <a:chOff x="4614480" y="4624920"/>
                  <a:chExt cx="1380240" cy="10785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691520" y="4624920"/>
                    <a:ext cx="122580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t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t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614480" y="4624920"/>
                    <a:ext cx="138024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995440" y="4624920"/>
                  <a:ext cx="1121760" cy="1078560"/>
                  <a:chOff x="5995440" y="4624920"/>
                  <a:chExt cx="1121760" cy="10785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6072120" y="46249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995440" y="46249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117560" y="4624920"/>
                  <a:ext cx="1134720" cy="1078560"/>
                  <a:chOff x="7117560" y="4624920"/>
                  <a:chExt cx="1134720" cy="1078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194600" y="4624920"/>
                    <a:ext cx="98028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117560" y="4624920"/>
                    <a:ext cx="113472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971640" y="1363680"/>
                <a:ext cx="7286760" cy="434340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520" y="2735280"/>
              <a:ext cx="1162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rs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RNA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7240" y="906480"/>
              <a:ext cx="29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econd mRNA 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44000" y="2775240"/>
              <a:ext cx="107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hir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19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UG – UCC – CCA – UGC – GGC – UUA – CCC – 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04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r>
              <a:rPr b="1" lang="en-US" sz="25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UAC – AGG – GGU – ACG – CCG – AAU – GGG – AUU -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5087880"/>
            <a:ext cx="1279440" cy="907560"/>
            <a:chOff x="0" y="5087880"/>
            <a:chExt cx="1279440" cy="907560"/>
          </a:xfrm>
        </p:grpSpPr>
        <p:sp>
          <p:nvSpPr>
            <p:cNvPr id="355" name=""/>
            <p:cNvSpPr/>
            <p:nvPr/>
          </p:nvSpPr>
          <p:spPr>
            <a:xfrm>
              <a:off x="0" y="5087880"/>
              <a:ext cx="106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afa"/>
                  </a:solidFill>
                  <a:latin typeface="Times New Roman"/>
                </a:rPr>
                <a:t>Amino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553572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afa"/>
                  </a:solidFill>
                  <a:latin typeface="Times New Roman"/>
                </a:rPr>
                <a:t>Acid: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112760" y="5153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5165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3080" y="5191200"/>
            <a:ext cx="14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35520" y="516744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y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62520" y="515304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99160" y="516096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11760" y="513864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62800" y="51372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TOP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-209520" y="1596960"/>
            <a:ext cx="9144000" cy="4419720"/>
            <a:chOff x="-209520" y="1596960"/>
            <a:chExt cx="9144000" cy="441972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-209520" y="1620720"/>
              <a:ext cx="9144000" cy="43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132680" y="3236760"/>
              <a:ext cx="565200" cy="820800"/>
            </a:xfrm>
            <a:prstGeom prst="ellipse">
              <a:avLst/>
            </a:pr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3062160"/>
              <a:ext cx="442800" cy="700200"/>
            </a:xfrm>
            <a:prstGeom prst="ellipse">
              <a:avLst/>
            </a:pr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41880" y="3762360"/>
              <a:ext cx="0" cy="9144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17880" y="463716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Codon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683480" y="2026800"/>
              <a:ext cx="0" cy="1492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2080" y="1596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Anticodon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2880" y="118800"/>
            <a:ext cx="65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Arial"/>
              </a:rPr>
              <a:t>2.  Rules for Base Pairing:</a:t>
            </a:r>
            <a:endParaRPr b="1" lang="en-US" sz="40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828800"/>
            <a:ext cx="6553080" cy="1305720"/>
            <a:chOff x="2057400" y="1828800"/>
            <a:chExt cx="6553080" cy="1305720"/>
          </a:xfrm>
        </p:grpSpPr>
        <p:sp>
          <p:nvSpPr>
            <p:cNvPr id="108" name=""/>
            <p:cNvSpPr/>
            <p:nvPr/>
          </p:nvSpPr>
          <p:spPr>
            <a:xfrm>
              <a:off x="2057400" y="1828800"/>
              <a:ext cx="655308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A.     Cytosine       Guanine 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          </a:t>
              </a: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(C       G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105520" y="2057400"/>
              <a:ext cx="609480" cy="304920"/>
              <a:chOff x="5105520" y="2057400"/>
              <a:chExt cx="609480" cy="30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5105520" y="2057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05520" y="221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05520" y="23623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038480" y="2666880"/>
              <a:ext cx="609840" cy="304920"/>
              <a:chOff x="4038480" y="2666880"/>
              <a:chExt cx="609840" cy="304920"/>
            </a:xfrm>
          </p:grpSpPr>
          <p:sp>
            <p:nvSpPr>
              <p:cNvPr id="114" name=""/>
              <p:cNvSpPr/>
              <p:nvPr/>
            </p:nvSpPr>
            <p:spPr>
              <a:xfrm>
                <a:off x="4038480" y="26668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38480" y="28195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038480" y="29718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073240" y="5208480"/>
            <a:ext cx="6400800" cy="1295640"/>
            <a:chOff x="2073240" y="5208480"/>
            <a:chExt cx="6400800" cy="1295640"/>
          </a:xfrm>
        </p:grpSpPr>
        <p:sp>
          <p:nvSpPr>
            <p:cNvPr id="118" name=""/>
            <p:cNvSpPr/>
            <p:nvPr/>
          </p:nvSpPr>
          <p:spPr>
            <a:xfrm>
              <a:off x="2073240" y="5208480"/>
              <a:ext cx="6400800" cy="129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1240" y="5218200"/>
              <a:ext cx="581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</a:rPr>
                <a:t>Notice that RNA has Uracil (not thymine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3581280"/>
            <a:ext cx="5791320" cy="1305720"/>
            <a:chOff x="2057400" y="3581280"/>
            <a:chExt cx="5791320" cy="1305720"/>
          </a:xfrm>
        </p:grpSpPr>
        <p:sp>
          <p:nvSpPr>
            <p:cNvPr id="121" name=""/>
            <p:cNvSpPr/>
            <p:nvPr/>
          </p:nvSpPr>
          <p:spPr>
            <a:xfrm>
              <a:off x="2057400" y="3581280"/>
              <a:ext cx="579132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B.     Adenine        Uracil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(A       U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908520" y="4497480"/>
              <a:ext cx="609480" cy="152280"/>
              <a:chOff x="3908520" y="4497480"/>
              <a:chExt cx="609480" cy="152280"/>
            </a:xfrm>
          </p:grpSpPr>
          <p:sp>
            <p:nvSpPr>
              <p:cNvPr id="123" name=""/>
              <p:cNvSpPr/>
              <p:nvPr/>
            </p:nvSpPr>
            <p:spPr>
              <a:xfrm>
                <a:off x="3908520" y="44974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08520" y="464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124600" y="3852720"/>
              <a:ext cx="609480" cy="152280"/>
              <a:chOff x="5124600" y="3852720"/>
              <a:chExt cx="609480" cy="152280"/>
            </a:xfrm>
          </p:grpSpPr>
          <p:sp>
            <p:nvSpPr>
              <p:cNvPr id="126" name=""/>
              <p:cNvSpPr/>
              <p:nvPr/>
            </p:nvSpPr>
            <p:spPr>
              <a:xfrm>
                <a:off x="5124600" y="38527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24600" y="40050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33440" y="17319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* helps to make protein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9080" y="3197160"/>
            <a:ext cx="6019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afa"/>
                </a:solidFill>
                <a:latin typeface="Arial"/>
              </a:rPr>
              <a:t>4.  Types of RNA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A.  Messenger (m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B.  Transfer (t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.  Ribosomal (r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52280" y="-360"/>
            <a:ext cx="6808680" cy="1618200"/>
            <a:chOff x="1952280" y="-360"/>
            <a:chExt cx="6808680" cy="1618200"/>
          </a:xfrm>
        </p:grpSpPr>
        <p:sp>
          <p:nvSpPr>
            <p:cNvPr id="131" name="PlaceHolder 1"/>
            <p:cNvSpPr>
              <a:spLocks noGrp="1"/>
            </p:cNvSpPr>
            <p:nvPr>
              <p:ph type="title"/>
            </p:nvPr>
          </p:nvSpPr>
          <p:spPr>
            <a:xfrm>
              <a:off x="1952280" y="-360"/>
              <a:ext cx="6808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lnSpc>
                  <a:spcPct val="100000"/>
                </a:lnSpc>
                <a:spcBef>
                  <a:spcPts val="2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Arial"/>
                </a:rPr>
                <a:t>3.  What is the function</a:t>
              </a:r>
              <a:endParaRPr b="1" lang="en-US" sz="4000" spc="-1" strike="noStrike">
                <a:solidFill>
                  <a:srgbClr val="f8faf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6680" y="914400"/>
              <a:ext cx="292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Arial"/>
                </a:rPr>
                <a:t>of RNA?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NA2" descr=""/>
          <p:cNvPicPr/>
          <p:nvPr/>
        </p:nvPicPr>
        <p:blipFill>
          <a:blip r:embed="rId1"/>
          <a:stretch/>
        </p:blipFill>
        <p:spPr>
          <a:xfrm>
            <a:off x="2260440" y="696960"/>
            <a:ext cx="5943600" cy="5351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74840" y="4048200"/>
            <a:ext cx="0" cy="14475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080" y="5038560"/>
            <a:ext cx="0" cy="9907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99080" y="1685520"/>
            <a:ext cx="0" cy="60948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06760" y="5527800"/>
            <a:ext cx="16002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525"/>
                </a:solidFill>
                <a:latin typeface="Arial"/>
              </a:rPr>
              <a:t>Sugar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afa"/>
                </a:solidFill>
                <a:latin typeface="Arial"/>
              </a:rPr>
              <a:t>(ribose)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96120" y="607392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afa"/>
                </a:solidFill>
                <a:latin typeface="Arial"/>
              </a:rPr>
              <a:t>Phosphate Group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07920" y="1087560"/>
            <a:ext cx="25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525"/>
                </a:solidFill>
                <a:latin typeface="Arial"/>
              </a:rPr>
              <a:t>Nitrogen Base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88920" y="275760"/>
            <a:ext cx="516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7400" y="1395360"/>
          <a:ext cx="6858000" cy="495000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438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ugar is deoxyribose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ugar is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ribose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Aden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Cytos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7378560" y="342900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9720" y="235116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8280" y="5508720"/>
            <a:ext cx="2779560" cy="646560"/>
            <a:chOff x="5318280" y="5508720"/>
            <a:chExt cx="2779560" cy="646560"/>
          </a:xfrm>
        </p:grpSpPr>
        <p:sp>
          <p:nvSpPr>
            <p:cNvPr id="145" name=""/>
            <p:cNvSpPr/>
            <p:nvPr/>
          </p:nvSpPr>
          <p:spPr>
            <a:xfrm>
              <a:off x="5318280" y="5508720"/>
              <a:ext cx="533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64320" y="552780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16480" y="4510080"/>
            <a:ext cx="2583000" cy="628920"/>
            <a:chOff x="5316480" y="4510080"/>
            <a:chExt cx="2583000" cy="628920"/>
          </a:xfrm>
        </p:grpSpPr>
        <p:sp>
          <p:nvSpPr>
            <p:cNvPr id="148" name=""/>
            <p:cNvSpPr/>
            <p:nvPr/>
          </p:nvSpPr>
          <p:spPr>
            <a:xfrm>
              <a:off x="5316480" y="451008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65960" y="451152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057400" y="1395360"/>
          <a:ext cx="6858000" cy="485784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43828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Guan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Thym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Uracil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hape is double helix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32120" y="242640"/>
            <a:ext cx="53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429000"/>
            <a:ext cx="533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85120" y="439884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6880" y="533232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54560" y="2400480"/>
            <a:ext cx="2710080" cy="644760"/>
            <a:chOff x="5254560" y="2400480"/>
            <a:chExt cx="2710080" cy="644760"/>
          </a:xfrm>
        </p:grpSpPr>
        <p:sp>
          <p:nvSpPr>
            <p:cNvPr id="156" name=""/>
            <p:cNvSpPr/>
            <p:nvPr/>
          </p:nvSpPr>
          <p:spPr>
            <a:xfrm>
              <a:off x="5254560" y="240048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31120" y="241776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40080" y="259920"/>
            <a:ext cx="524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395360"/>
          <a:ext cx="6858000" cy="4857840"/>
        </p:xfrm>
        <a:graphic>
          <a:graphicData uri="http://schemas.openxmlformats.org/drawingml/2006/table">
            <a:tbl>
              <a:tblPr/>
              <a:tblGrid>
                <a:gridCol w="2819520"/>
                <a:gridCol w="1828800"/>
                <a:gridCol w="220968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hape is single stranded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Located in nucleus only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Composed of nucleotides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tores genetic information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334120" y="3429000"/>
            <a:ext cx="533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56160" y="544680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7320" y="242244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64000" y="4484520"/>
            <a:ext cx="2476440" cy="649080"/>
            <a:chOff x="5364000" y="4484520"/>
            <a:chExt cx="2476440" cy="649080"/>
          </a:xfrm>
        </p:grpSpPr>
        <p:sp>
          <p:nvSpPr>
            <p:cNvPr id="164" name=""/>
            <p:cNvSpPr/>
            <p:nvPr/>
          </p:nvSpPr>
          <p:spPr>
            <a:xfrm>
              <a:off x="7299720" y="4506120"/>
              <a:ext cx="540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4000" y="4484520"/>
              <a:ext cx="540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89360" y="2426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7400" y="1542960"/>
          <a:ext cx="6858000" cy="428148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2057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Helps to make proteins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657760" y="2538360"/>
            <a:ext cx="2443320" cy="659160"/>
            <a:chOff x="5657760" y="2538360"/>
            <a:chExt cx="2443320" cy="659160"/>
          </a:xfrm>
        </p:grpSpPr>
        <p:sp>
          <p:nvSpPr>
            <p:cNvPr id="169" name=""/>
            <p:cNvSpPr/>
            <p:nvPr/>
          </p:nvSpPr>
          <p:spPr>
            <a:xfrm>
              <a:off x="7567560" y="257004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7760" y="2538360"/>
              <a:ext cx="5335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9:34:53Z</dcterms:created>
  <dc:creator>Plano ISD</dc:creator>
  <dc:description/>
  <dc:language>en-US</dc:language>
  <cp:lastModifiedBy>Amy Schilling</cp:lastModifiedBy>
  <dcterms:modified xsi:type="dcterms:W3CDTF">2007-12-18T17:54:34Z</dcterms:modified>
  <cp:revision>46</cp:revision>
  <dc:subject/>
  <dc:title>Understanding DNA</dc:title>
</cp:coreProperties>
</file>